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Chapter" id="0">
      <p:sldLst>
        <p:sld r:id="rId4"/>
        <p:sld r:id="rId9"/>
        <p:sld r:id="rId10"/>
        <p:sld r:id="rId11"/>
        <p:sld r:id="rId12"/>
      </p:sldLst>
    </p:custShow>
    <p:custShow name="ELI Sect 2" id="1">
      <p:sldLst>
        <p:sld r:id="rId4"/>
        <p:sld r:id="rId5"/>
        <p:sld r:id="rId6"/>
        <p:sld r:id="rId7"/>
        <p:sld r:id="rId9"/>
        <p:sld r:id="rId10"/>
        <p:sld r:id="rId11"/>
        <p:sld r:id="rId12"/>
        <p:sld r:id="rId13"/>
      </p:sldLst>
    </p:custShow>
    <p:custShow name="ELI Sect 3" id="2">
      <p:sldLst>
        <p:sld r:id="rId9"/>
        <p:sld r:id="rId10"/>
        <p:sld r:id="rId11"/>
        <p:sld r:id="rId12"/>
      </p:sldLst>
    </p:custShow>
    <p:custShow name="ELI Sect 4" id="3">
      <p:sldLst>
        <p:sld r:id="rId9"/>
        <p:sld r:id="rId10"/>
        <p:sld r:id="rId11"/>
        <p:sld r:id="rId12"/>
      </p:sldLst>
    </p:custShow>
    <p:custShow name="ELI STP" id="4">
      <p:sldLst>
        <p:sld r:id="rId3"/>
        <p:sld r:id="rId14"/>
      </p:sldLst>
    </p:custShow>
    <p:custShow name="Bellringers" id="5">
      <p:sldLst>
        <p:sld r:id="rId4"/>
      </p:sldLst>
    </p:custShow>
    <p:custShow name="Chapter menu" id="6">
      <p:sldLst>
        <p:sld r:id="rId4"/>
        <p:sld r:id="rId5"/>
        <p:sld r:id="rId6"/>
        <p:sld r:id="rId7"/>
        <p:sld r:id="rId9"/>
        <p:sld r:id="rId10"/>
        <p:sld r:id="rId11"/>
        <p:sld r:id="rId12"/>
        <p:sld r:id="rId13"/>
      </p:sldLst>
    </p:custShow>
    <p:custShow name="Test Prep" id="7">
      <p:sldLst>
        <p:sld r:id="rId3"/>
        <p:sld r:id="rId14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ar Activit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spo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spot Cyc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Ejec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rora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lar Ejec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ronal Mass Ejec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ronal mass ej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particles from a solar flare escape into space, increasing the strength of the solar win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also escape as coronal mass ejections. The particles in the ejection can cause disturbances to Earth’s magnetic fiel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disturbances have been known to interfere with radio communications, satellites, and even cause blackou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urora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ror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roras are the result of the interaction between the solar wind and Earth’s magnetosphe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roras are usually seen close to Earth’s magnetic poles because electrically charged particles are guided toward earth’s magnetic poles by Earth’s  magnetosphe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XT Composite Image of the Su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514600" y="2136600"/>
            <a:ext cx="396252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sunspots are related to powerful magnetic fields on the su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minences, solar flares, and coronal mass ejectio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the solar wind can cause auroras on Earth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unspo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nsp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vements of gases within the sun’s convective zone and the movements caused by the sun’s rotation produce magnetic field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gnetic fields cause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unspo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er convection causes a decrease in the amount of gas that is transferring energy from the core of the sun to these regions of the photospher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 less energy is being transferred, these regions of the photosphere are considerably cooler than surrounding regions, and form areas of the sun that appear darker than their surrounding regio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are called sunspo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spot Cycl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498320"/>
            <a:ext cx="8258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ations of sunspots have shown that the sun rotate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s and positions of sunspots vary in a cycle that lasts about 11 year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nspots initially appear in groups about midway between the sun’s equator and poles. The number of sunspots increases over the next few until it reaches a peak of 100 of more sunspots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the peak, the number of sunspots begins to decrease until it reaches a minimu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unspo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6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lar Ejectio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solar activities are affected by the sunspot cycle, such as the solar-activity cycl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-activity cycle is caused *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ycle is characterized *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ejections are events in which the sun emits atomic particl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lar Ejec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minenc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minenc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ejections include prominences, solar flares, and coronal mass ejectio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nences are huge arches of glowing gases that follow the curved lines of the magnetic force from a region of one magnetic force to a region of the opposite magnetic polarit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lar Ejection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lar Flar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lar fl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flares are the most violent of all solar disturbanc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flares release the energy stored in the strong magnetic fields of sunspots. This release can lead to the formation of coronal loop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5-15T17:29:12Z</dcterms:modified>
  <cp:revision>617</cp:revision>
  <dc:subject/>
  <dc:title>No Slide Title</dc:title>
</cp:coreProperties>
</file>